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021-89C2-4A1D-BB65-C0DB9884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0A2-5972-49F1-872A-A100F77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C64-52D2-4CDB-9AE4-FE403F0B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AF6-A94E-4864-AAFB-FC3BC104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D19-75AC-438C-AF6D-8954306D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08D-8962-4690-AF88-33203AC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CFE-2828-4E4E-A8EE-7DDEA26A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65F-C3E5-4C8F-A058-3AB6B60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74A-8324-470B-B2C6-CED12E5D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8CE-70E4-4086-B8CD-E031B2B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066-DB89-4C8A-A69B-A9F73D2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528-F79E-417A-90A8-9F76B67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4C8-8217-4F7C-84C4-F87C6D14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The Reform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Old English Text MT"/>
              </a:rPr>
              <a:t>A New Path in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231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194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61722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8120" y="4700520"/>
            <a:ext cx="2914560" cy="215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7 a young monk challenges the Roman Catholic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at Wittenberg university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d Pope does not make decisions on who goes to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wanted to reform the church=R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about leadership &amp; worried about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h no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indulgences, 95 arguments known as 95 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943600" y="4808520"/>
            <a:ext cx="3200400" cy="204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72440" y="0"/>
            <a:ext cx="1771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609480"/>
            <a:ext cx="3886200" cy="513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33920" y="473220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219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Martin Luther co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rch did not take him ser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w/ Pope…verbally like Wyc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’s ideas led to new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first protestant den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anism: faith in Jesus, Bible,&amp; all believers in church not just cl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peasant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Others of the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iderius 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=better people=better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 bible, good in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John Calvin &amp; Calvin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ritans &amp; Presbyter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heology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artin Luther…secretly &amp; li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safety in Geneva, Switzer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rotestant 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predestination, worked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 picks leaders, led to picking political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89840" y="0"/>
            <a:ext cx="205416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10280" y="3200400"/>
            <a:ext cx="2133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atholics vs. Prote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broke out fo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hurch wanted people back, council at Trent, outcome= rules &amp; sem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its = Popes agents, founder Ignatius of Loy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’s (Navarre) and Huguenots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nobles in France Protestant, Catherine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and Huguenot Henry IV=king, no P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ipped to get what he wanted 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ty year war in Czech re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re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reformation: took longer to change, Henry VIII, divorced/executed/died in childbirth/ divorced/ executed/ survived, excommunicated, started church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, wanted to be Catholic, 300 at the stake, nickname, followed by Elizabeth I and the Purit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49:44Z</dcterms:created>
  <dc:creator>jobert</dc:creator>
  <dc:description/>
  <dc:language>en-US</dc:language>
  <cp:lastModifiedBy>jobert</cp:lastModifiedBy>
  <dcterms:modified xsi:type="dcterms:W3CDTF">2012-05-25T15:28:23Z</dcterms:modified>
  <cp:revision>7</cp:revision>
  <dc:subject/>
  <dc:title>The Reformation</dc:title>
</cp:coreProperties>
</file>